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63C-BB9D-4ED5-BB29-4058143F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AB8-8FA0-4143-A49B-F3FE4C5B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122-94B7-4CD8-946E-53F13EE4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19E-C6F9-4230-88BA-1861CD05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FD1-808A-4450-9F3D-A4F0E77D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574-50E0-4539-8B01-5B1CEAFF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2E9-3BFA-48A5-9642-AE1743EF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6B2-DA0B-4A0E-AC19-3E598AF7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987-3AED-40DE-9944-D4DCE887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EEE-8A64-4ACB-BE4B-FFF8190F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E53-95D1-4CD8-AB55-7EF08338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5FF-499A-448B-B668-98A01CFE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92A6-1EE2-46D6-A562-0A74DE7D7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59360" cy="1719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3267360" cy="314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8960" y="21700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6720" y="3313080"/>
            <a:ext cx="232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ic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58640" y="329076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letter that represents a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200" y="419112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mathematical phrase with atleast on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9246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458200" cy="72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20574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29600" y="20574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4920" y="2649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2835000" cy="34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7925040" cy="2779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05720" y="2057400"/>
            <a:ext cx="17524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305920" cy="957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2666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590920"/>
            <a:ext cx="8384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229600" cy="1208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61722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0773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9:10:57Z</dcterms:created>
  <dc:creator>grahams</dc:creator>
  <dc:description/>
  <dc:language>en-US</dc:language>
  <cp:lastModifiedBy>grahams</cp:lastModifiedBy>
  <dcterms:modified xsi:type="dcterms:W3CDTF">2011-10-21T19:11:28Z</dcterms:modified>
  <cp:revision>1</cp:revision>
  <dc:subject/>
  <dc:title>Slide 1</dc:title>
</cp:coreProperties>
</file>